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709-0DBE-48AF-BC2F-3B50A1C5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FA5-BB6F-4B16-AA24-DA5C4762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782-7C30-49FD-A5F2-4F530F30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F26-AB7B-44D4-A2BB-67DD254F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6A2-3238-4A18-9B8E-6E2E1DB7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15C-FC41-4F00-A26D-81210ACE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2E0-CDDB-4D7D-AC47-EF105856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3E6-F8A8-4670-9267-757EB817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279-77FD-4B71-8198-8B1D6646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202-047C-40E4-A218-C6E3ECA4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9D3-730C-4FA5-9BA3-E34B9B19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448-CFBD-432F-8DBC-925C5CDF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500F-7487-4905-A0BB-C8ED8D4013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cy D. Barker, M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Calculate a 95% CI for the m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Mean: 26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tandard deviation: s=5.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: n=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895480" y="1219320"/>
                <a:ext cx="289584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00200" y="4724280"/>
                <a:ext cx="563868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Calculate a 90% CI for the m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Mean: 26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tandard deviation: s=5.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: n=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Calculate a 99% CI for the m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Mean: 26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tandard deviation: s=5.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: n=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352680" y="2895480"/>
                <a:ext cx="434340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581280" y="5562720"/>
                <a:ext cx="42674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r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Calculate a 95% CI for the propor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proportion: 0.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: n=4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429000" y="1447920"/>
                <a:ext cx="350532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/>
                    </m:limUpp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/>
                            </m:limUp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33520" y="4800600"/>
                <a:ext cx="815328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00</m:t>
                                </m:r>
                              </m:den>
                            </m:f>
                          </m:e>
                        </m:rad>
                        <m:r>
                          <m:t xml:space="preserve">&lt;</m:t>
                        </m:r>
                        <m:r>
                          <m:t xml:space="preserve">p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00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&lt;</m:t>
                        </m:r>
                        <m:r>
                          <m:t xml:space="preserve">p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95% 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between propor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47920" y="2286000"/>
            <a:ext cx="5715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I for difference between proportio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3657600" cy="2590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00400" y="4191120"/>
            <a:ext cx="365760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200400" y="5334120"/>
            <a:ext cx="3657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terpretation of C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19112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R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 Ratio (multiplicative s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equivalent 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s a Taylor Series approximation for the var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3124080" cy="785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3733920" cy="72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514600" y="3581280"/>
            <a:ext cx="312408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R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45720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ds Ratio (multiplicative s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equivalent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Uses a Taylor Series approximation for the var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181480" cy="1609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743200" y="4648320"/>
            <a:ext cx="38862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38102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337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ID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idence Density Ratio (Multiplicative s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equivalent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Uses a Taylor Series approximation for the var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4876920" cy="1209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14600" y="4572000"/>
            <a:ext cx="297180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ID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47242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operties of Confidence Interval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der the CI, the less precise the estim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e narrow the CI, the more precise the estim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Note:  The confidence interval does not address the issue of b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affects the Confidence Interval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vel of confid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tion in th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RR, OR, IDR, the strength of the assoc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 vs. P-valu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Simila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formulas, (approximate and exa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ther account for b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ally equivalent (Theoretically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Dif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 provides same information as a statistical test, plus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 reminds reader of vari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 provides range of compatible values (interval estim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 more clearly shows influence of sample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 vs. P-Valu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y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 Rat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 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2, 3.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2, 40.8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8, 61.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9, 1.07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97, 0.99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 vs. P-Valu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y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 Rat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 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5, 0.7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&lt;0.0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94, 17.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99, 16.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01, 15.8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.0, 8.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0958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57150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6390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Hypothesis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evidence that the population parameter, e.g.,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R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ID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different from the null valu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Interval Esti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determine the precision of the point estimate by accounting for sampling variabi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he go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ample information to compute two numbers,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bout which we can claim with a certain amount of confidence, say 95%, that they surround the true value of the parame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ral CI Formul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thmetic scale meas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ve scale meas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*Note:  The variance in this formula refers to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variance [ln (point estimate)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38080" y="2362320"/>
                <a:ext cx="71629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int estimate 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 standard normal deviate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ianc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80880" y="4114800"/>
                <a:ext cx="8534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int estimate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standard normal deviate 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iance</m:t>
                            </m:r>
                          </m:e>
                          <m:sup/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8120" y="1447920"/>
                <a:ext cx="289548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69" name=""/>
          <p:cNvGraphicFramePr/>
          <p:nvPr/>
        </p:nvGraphicFramePr>
        <p:xfrm>
          <a:off x="2743200" y="3886200"/>
          <a:ext cx="3962520" cy="1765440"/>
        </p:xfrm>
        <a:graphic>
          <a:graphicData uri="http://schemas.openxmlformats.org/drawingml/2006/table">
            <a:tbl>
              <a:tblPr/>
              <a:tblGrid>
                <a:gridCol w="2168640"/>
                <a:gridCol w="179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Confidence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Z-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4:13:38Z</dcterms:created>
  <dc:creator>Nancy Barker</dc:creator>
  <dc:description/>
  <dc:language>en-US</dc:language>
  <cp:lastModifiedBy>Nancy Barker</cp:lastModifiedBy>
  <dcterms:modified xsi:type="dcterms:W3CDTF">2004-11-08T18:25:16Z</dcterms:modified>
  <cp:revision>50</cp:revision>
  <dc:subject/>
  <dc:title>Confidence Intervals</dc:title>
</cp:coreProperties>
</file>